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7A1-FCC1-48D8-9FC5-B9E243CD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9C8-C795-4E01-8908-D87D7131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301-ED12-4531-92CF-463D5F3F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332-6AB8-45E8-A315-881A0BF4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FE5-425F-495B-B3A3-9455087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66B-955E-4183-99AF-B9BF762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55A-6488-4EBD-89AF-DEF27234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0D5-19E8-4440-897E-D63EEC2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86EA-D71A-4494-92B4-3FAC319D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985E-A34D-4CAF-928D-5E1A66B3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100E-D42D-49D6-AB57-8C6F0CD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0C3-1198-46AD-9D7F-B672D8FA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F4C3-2160-48F8-9456-995CB605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DE1A-5544-426D-8F3C-259D0BE3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BC9C-79F1-47AC-8F2A-A786BDD2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5DB-02A1-4B6B-AB24-2F2FB7AD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07D2-F793-4164-BE56-5DE7318F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32A-369E-47A5-8998-AC29169B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644-8918-465D-ACF1-737DBF70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B43-5D8C-42EF-B73E-41A98C15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0BE-531F-4201-8C07-BDF43C6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6EC-8C51-463E-9973-8BCC451E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F6A-01C7-4BE8-BC74-0ED4385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C24-9058-41D5-B220-EC2437B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29FA-A57D-4C07-9332-6613E7383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9A55-1138-476F-8991-4CA03B2C2A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Industrial Revolu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750 - 18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518148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Power Lo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Edmund Cartwright (17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The Factory System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viously,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ttage indus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uld not keep up with supply and dem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new machines were often too big to be put into homes so they were put in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cto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ies were located near a power source (coal, water, or fore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es of mass produced textiles become less expensive to make and purchase than hand produced ones, thus forcing people out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because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upply and dem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ers in the cottage industry had to leave home to find work in the fac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Iron Produc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was the second industry to become mechan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he steam engine, etc, cheap &amp; plentiful iron provided the tough industrial material needed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icultural impl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mate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itary hard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ial machin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soon became the world’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ing producer of i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am power use increased with iron 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d to the formation of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ailways which were a symbol of the industrial 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/c they tied coal, iron &amp; steam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8195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075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Results of Improved Transportation Syst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velopment of roads &amp; can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duced costs of moving raw materials which reduced costs of finished materi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ailways cheap &amp; fast transportation of goo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uge amount of workers required to build &amp; maintain railroa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port industry – British goods were exported all over the wor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ritain became most industrialized country in the wor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ver ½ the population lived in c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Key Ter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dustry – any business, usually manufacturing, that creates products for sa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volution – a sudden &amp; rapid change in socie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tent – a legal right to be the only one allowed to make a product.  Protects the inventors ideas from being stole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ital – money required to start a business.  It may be borrowed as a loan from banks or from individu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actory System – a large scale method of manufacturing, using machines &amp; workers in one large build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ss Production – making large quantities of an item which reduces the cost of each unit &amp; increases prof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ssembly line – stages in production where the products passes from one worker to the next to perform a specific jo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ttage industry – small scale manufacturing done in the home or cottage of a single craftsperson (ex:  Weaver making cloth at home on a loo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Reasons the Ind. Rev. Began in Britain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“The Workshop of the World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atural resources (coal &amp; iron, rivers, natural harbours, temperate climat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dical advances gave higher birth rates, lower death rates which provided a growing population (more people filled jobs, larger domestic marke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ivate entrepreneurs provided capital for industrializ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provements in agriculture to feed the growing popul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eign trade provided  access to the colonies markets which provided raw materia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itain was free from invasion &amp; domestic unrest which allowed them to pursue its industrial course without interrup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The Cottage Indust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4727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avers bought supplies from merchants &amp; spun them into texti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sold their products for more than the cost of the supplies to make a prof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on, production could not meet demand &amp; new inventions and th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actory syste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replaced the cottage indust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pulation move from country to city (cottages/farms to factorie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Inventions of the Ind. Rev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42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lying Shutt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John Kay (17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ed increase speed when weaving cl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124680" y="990720"/>
            <a:ext cx="3019320" cy="3504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752480" y="3803760"/>
            <a:ext cx="4343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380880"/>
            <a:ext cx="510840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pinning Je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James Hargreaves (177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809880" cy="30956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28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533160"/>
            <a:ext cx="4422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Water Fr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Sir Richard Arkwright (176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nessed water power to produce textile 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aled the need to move to specialized mills near water 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 of fac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772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0"/>
            <a:ext cx="5108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ahoma"/>
              </a:rPr>
              <a:t>The Steam Engine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by James Watt (1769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his was the single most important invention of the early Ind. Rev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vided power that would run everything from textile factories &amp; steel mills to locomotives &amp; huge ship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mproved transportation &amp; communication b/c destinations could be reached much more quickly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vide continuous supply of power &amp; could be located near raw materials &amp; transportation centers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813280" y="685800"/>
            <a:ext cx="33307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49:15Z</dcterms:created>
  <dc:creator>nbdoe</dc:creator>
  <dc:description/>
  <dc:language>en-US</dc:language>
  <cp:lastModifiedBy>nbdoe</cp:lastModifiedBy>
  <dcterms:modified xsi:type="dcterms:W3CDTF">2008-04-09T16:55:37Z</dcterms:modified>
  <cp:revision>10</cp:revision>
  <dc:subject/>
  <dc:title>The Industrial Revolution</dc:title>
</cp:coreProperties>
</file>